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20A5-41E9-4F43-8ED7-F57A8F65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146-A228-424F-8F30-7DF77093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109-DD68-495A-8A17-1433975E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F14-3103-49D9-8D76-FD3130E0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7345-9B20-420A-9C95-963E31E2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068-1FE3-474D-8BC8-D73D0750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4E6-D28F-4275-B177-23955A1D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0D2F-0A2D-46DA-B288-C92B5596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386-5D8F-41AE-981C-E72609A6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B18-EDF8-4082-825F-0DCE1B1F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26CF-3014-473D-8986-0C948EFA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4B10-B629-4898-9633-8760415F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D7A5-E887-47E9-99A0-7A9E2361D098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1/14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720" y="145800"/>
            <a:ext cx="72262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- VF Acceptance Test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279360" y="4660920"/>
            <a:ext cx="871236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25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34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463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669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78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02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307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988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722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928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37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740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9456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0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8108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6016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12400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64636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16692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6860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6052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29600" y="166212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32680" y="4322880"/>
            <a:ext cx="162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5920" y="1079640"/>
            <a:ext cx="1628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2784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70200" y="1662120"/>
            <a:ext cx="4502160" cy="14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5080" y="167652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 tests with all OpCo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663560"/>
            <a:ext cx="2085840" cy="180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70920" y="1590840"/>
            <a:ext cx="1317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3160" y="17701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duction start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1360" y="1316160"/>
            <a:ext cx="19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5420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360" y="1305000"/>
            <a:ext cx="28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tests with 2-3 dedicated OpCo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32200" y="980640"/>
            <a:ext cx="208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46640" y="980640"/>
            <a:ext cx="64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776560" y="981000"/>
            <a:ext cx="349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29604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376760" y="980640"/>
            <a:ext cx="255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189320" y="981000"/>
            <a:ext cx="223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97868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8480" y="2678040"/>
            <a:ext cx="158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637000" y="2673000"/>
            <a:ext cx="4743360" cy="146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665440"/>
            <a:ext cx="574560" cy="165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5720" y="2833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-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40080" y="287172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48440" y="2798640"/>
            <a:ext cx="11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al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43840" y="2162160"/>
            <a:ext cx="1440" cy="262908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38920" y="2295360"/>
            <a:ext cx="13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~1 w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080" y="231156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8800" y="2311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06760" y="4838760"/>
            <a:ext cx="18720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41120" y="487692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59080" y="5289480"/>
            <a:ext cx="18720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534024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848844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82308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4838760"/>
            <a:ext cx="18756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46080" y="485784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40760" y="4838760"/>
            <a:ext cx="18720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75480" y="4863960"/>
            <a:ext cx="11512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final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4148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1760" y="4838760"/>
            <a:ext cx="18756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7080" y="486900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55436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646320" y="5813280"/>
            <a:ext cx="21564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00520" y="581040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77920" y="58150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94640" y="58006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4508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4508640"/>
            <a:ext cx="158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4484520"/>
            <a:ext cx="1569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9280" y="448452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28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´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7156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95560" y="4481640"/>
            <a:ext cx="158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664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860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592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012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0540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46600" y="449280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280" y="5267160"/>
            <a:ext cx="187200" cy="2350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04760" y="53308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1+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95280" y="5803920"/>
            <a:ext cx="216000" cy="2030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6200" y="580536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P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94200" y="414396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3213000"/>
            <a:ext cx="358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1920" y="315756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37400" y="447984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767800" y="2157480"/>
            <a:ext cx="1440" cy="262872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34280" y="2550960"/>
            <a:ext cx="11732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li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 Boch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Monika Reiss</cp:lastModifiedBy>
  <dcterms:modified xsi:type="dcterms:W3CDTF">2006-01-23T11:35:13Z</dcterms:modified>
  <cp:revision>56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4040715</vt:r8>
  </property>
  <property fmtid="{D5CDD505-2E9C-101B-9397-08002B2CF9AE}" pid="3" name="_AuthorEmail">
    <vt:lpwstr>Monika.Reiss@BenQ.com</vt:lpwstr>
  </property>
  <property fmtid="{D5CDD505-2E9C-101B-9397-08002B2CF9AE}" pid="4" name="_AuthorEmailDisplayName">
    <vt:lpwstr>Monika Reiss</vt:lpwstr>
  </property>
  <property fmtid="{D5CDD505-2E9C-101B-9397-08002B2CF9AE}" pid="5" name="_EmailSubject">
    <vt:lpwstr>Arjen's address for VF approval process</vt:lpwstr>
  </property>
</Properties>
</file>